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0637-E614-4A69-B017-91E70E71D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- narrowly focused, high leverage areas, 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- use of both summative and formative measures, qualitative and quantitativ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- a manageable stretch from present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s to inspire rather than discou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- goals describe the outcome or the result of the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- sets a timeframe for accompl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- Goal Sor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-chart to categorize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07640-C8B7-4720-A6E1-0E97ABCA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EDE86-6B9B-447B-BAD2-C1DA0F4B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1AD90-E228-4968-872D-3825E939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C0897-514B-4207-A487-ED10DE6D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CA4E-71CD-43BA-8192-FDF433EC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3B18-B88C-4A90-8CE0-DB5D19A2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4EFE-F298-459A-8FDB-949FD5D8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DF2A-3ABF-452A-8462-7DC8CBD7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73CF-C6D5-466F-AB6B-34463DB4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8DB1-2CDF-4B05-9FB5-866CE7D8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28CA-BFD5-4A5E-8800-AFE8E810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EC7E5-264D-4DB4-BB0D-7B6DA869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E80E-CD20-45D5-A7C0-D4320748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59FF-334F-46FF-83D4-7C9F42BB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33A4-F17B-4396-83F5-29F9A6CC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868D-1128-45EA-9712-4D369ADA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3D58-C5B7-436C-AD8A-7291F6F5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DBF70-B2E0-4A9E-B14C-74BE07F7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75F54-4289-4E8F-B4ED-2334E0B0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4033B-B58E-466A-8A57-8623AF5B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B1634-4DA4-4531-B8BD-84FC5D6B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218A1-D43E-46C3-8DDB-3C1607E9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C2121-8A42-49FF-8C0C-CCE95224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73E43-1360-4817-8D11-760E8870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87FE-6882-48F5-83B9-B5BA848170A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6339-D365-4FCD-8692-8EE9565AAB3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SMART GOAL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Related to APP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57200" y="1752480"/>
          <a:ext cx="8218440" cy="452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21844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MART Learning Wheel</a:t>
            </a:r>
            <a:br>
              <a:rPr sz="4200"/>
            </a:br>
            <a:r>
              <a:rPr b="0" lang="en-US" sz="1900" spc="-1" strike="noStrike">
                <a:solidFill>
                  <a:srgbClr val="ffffcc"/>
                </a:solidFill>
                <a:latin typeface="Tahoma"/>
              </a:rPr>
              <a:t>-2007 McCay Consulting, LLC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2096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Adjust strategy, use what worked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Study the results, compare new data to baseline data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477120" y="2134800"/>
            <a:ext cx="220968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Gather baseline data, establish SMART Goal, develop a plan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Implement the plan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32767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41911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95480" y="41911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32767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4343040" y="3733920"/>
            <a:ext cx="685800" cy="533160"/>
          </a:xfrm>
          <a:custGeom>
            <a:avLst/>
            <a:gdLst>
              <a:gd name="textAreaLeft" fmla="*/ 0 w 685800"/>
              <a:gd name="textAreaRight" fmla="*/ 686160 w 6858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4114800" y="3733560"/>
            <a:ext cx="685800" cy="533160"/>
          </a:xfrm>
          <a:custGeom>
            <a:avLst/>
            <a:gdLst>
              <a:gd name="textAreaLeft" fmla="*/ 0 w 685800"/>
              <a:gd name="textAreaRight" fmla="*/ 686160 w 6858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aking Building Goals Smar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ove Test Sc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ove Stud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 Parental Involvement and Sup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est Scor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f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ain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me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181480" y="23796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tudent Behavio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f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ain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me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778280" y="1676520"/>
            <a:ext cx="3438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arental Suppor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f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ain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me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05320" y="2198520"/>
            <a:ext cx="27241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ome Idea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Your SMART Goa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 a few minutes to establish a SMART go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ated to Student Achie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Steps in a Successful APP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eam Meeting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ish a SMART Goal for your Te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MART GOAL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empus Sans ITC"/>
              </a:rPr>
              <a:t>There is absolutely no research correlation between success and family background, race, national origin, financial status, or even educational accomplishments.  There is but one correlation with success, and that is </a:t>
            </a:r>
            <a:r>
              <a:rPr b="1" lang="en-US" sz="4100" spc="-1" strike="noStrike">
                <a:solidFill>
                  <a:srgbClr val="ff0000"/>
                </a:solidFill>
                <a:latin typeface="Tempus Sans ITC"/>
              </a:rPr>
              <a:t>ATTITUDE</a:t>
            </a: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-Harry Wo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Using Goals for Resul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Specific and Strategi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Measurab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Attainab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Results-Orient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Time bou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6324480"/>
            <a:ext cx="88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nzemius, A. &amp; O’Neill, J. (2001)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Building shared responsibility for student learnin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 Alexandra, VA: ASC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SMART Goals for Professional Learning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trict Level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hallenge, inspire, strategic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r-reaching goals (5 year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chool Level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ioritize, targe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as on needs of specific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s (1-3 year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acher Level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cus 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fic skills and knowledg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annu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-2006 McKay Consulting, LLC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981080"/>
            <a:ext cx="2133720" cy="3429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80773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Developing Goals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bf25a"/>
                </a:solidFill>
                <a:latin typeface="Tahoma"/>
              </a:rPr>
              <a:t>When we establish clear learning goals, the effect on student achievement can be as much as a </a:t>
            </a:r>
            <a:r>
              <a:rPr b="0" i="1" lang="en-US" sz="3200" spc="-1" strike="noStrike" u="sng">
                <a:solidFill>
                  <a:srgbClr val="ebf25a"/>
                </a:solidFill>
                <a:uFillTx/>
                <a:latin typeface="Tahoma"/>
              </a:rPr>
              <a:t>41 percentile gain</a:t>
            </a:r>
            <a:r>
              <a:rPr b="0" i="1" lang="en-US" sz="3200" spc="-1" strike="noStrike">
                <a:solidFill>
                  <a:srgbClr val="ebf25a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96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rzano, R. (2003).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What works in school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Alexandra, VA: ASC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96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291960" indent="-29196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cused on results not just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Tahoma"/>
              </a:rPr>
              <a:t>A Framework for Shared Goal Setting</a:t>
            </a:r>
            <a:endParaRPr b="0" lang="en-US" sz="3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64240" y="1685520"/>
            <a:ext cx="392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Jester"/>
              </a:rPr>
              <a:t>Focus:</a:t>
            </a:r>
            <a:r>
              <a:rPr b="0" lang="en-US" sz="2500" spc="-1" strike="noStrike">
                <a:solidFill>
                  <a:srgbClr val="ffffff"/>
                </a:solidFill>
                <a:latin typeface="Jester"/>
              </a:rPr>
              <a:t> create shared clarity of thought, direction, and purpos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Jester"/>
              </a:rPr>
              <a:t>Reflection:</a:t>
            </a:r>
            <a:r>
              <a:rPr b="0" lang="en-US" sz="2500" spc="-1" strike="noStrike">
                <a:solidFill>
                  <a:srgbClr val="ffffff"/>
                </a:solidFill>
                <a:latin typeface="Jester"/>
              </a:rPr>
              <a:t> learn from the past and identify ways of accomplishing goal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Jester"/>
              </a:rPr>
              <a:t>Collaboration:</a:t>
            </a:r>
            <a:r>
              <a:rPr b="0" lang="en-US" sz="2500" spc="-1" strike="noStrike">
                <a:solidFill>
                  <a:srgbClr val="ffffff"/>
                </a:solidFill>
                <a:latin typeface="Jester"/>
              </a:rPr>
              <a:t> come together to share knowledge and idea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Jester"/>
              </a:rPr>
              <a:t>-Conzemius &amp; O’Neil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2590920"/>
            <a:ext cx="3657600" cy="2590560"/>
          </a:xfrm>
          <a:prstGeom prst="triangle">
            <a:avLst>
              <a:gd name="adj" fmla="val 50000"/>
            </a:avLst>
          </a:prstGeom>
          <a:solidFill>
            <a:srgbClr val="602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257800"/>
            <a:ext cx="2743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25a"/>
                </a:solidFill>
                <a:latin typeface="Jester"/>
              </a:rPr>
              <a:t>COLLABO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25a"/>
                </a:solidFill>
                <a:latin typeface="Jester"/>
              </a:rPr>
              <a:t>How will we get ther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1828800"/>
            <a:ext cx="3200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25a"/>
                </a:solidFill>
                <a:latin typeface="Jester"/>
              </a:rPr>
              <a:t>FOC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25a"/>
                </a:solidFill>
                <a:latin typeface="Jester"/>
              </a:rPr>
              <a:t>Where do we want to b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525780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25a"/>
                </a:solidFill>
                <a:latin typeface="Jester"/>
              </a:rPr>
              <a:t>REFL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25a"/>
                </a:solidFill>
                <a:latin typeface="Jester"/>
              </a:rPr>
              <a:t>Where are we now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Are you process oriented or results oriented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s Goal (what is it I want to do?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Raise student achievement in E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s Goal (where do I want to be?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Increase performance of special education students on the NYS ELA test by 5% in two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Process Goals and Results Goal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ocess Focuses on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Mean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Input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Capacity improvement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System intervention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Improvement activitie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Function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ocess Key Word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Develop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Implement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Attend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Design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Write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Create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To “do”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xamp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Implement a reward system for behavior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Develop a school-wide writing rubric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Results Focus on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nd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oductivit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utcom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mprovement targe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Result Key Word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crease my ability to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crease my use of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crease my knowledge of 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Example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mprove my ability to improve student behavi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mprove staff’s ability to improve student writ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634032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Conzemius, A. &amp; O’Neill, J. (2001). </a:t>
            </a:r>
            <a:r>
              <a:rPr b="0" i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Building shared responsibility for student learning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. Alexandra, VA: ASC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Developing SMART Professional Learning Goals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your SMART learning goal? What are you seeking to improv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your rationale for selecting this goal? What is the impact or result of this goal on student learn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tifacts or tools will you use to measure the progress of your goa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2006 McKay Consulting, LL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3:32:58Z</dcterms:created>
  <dc:creator>North Rockland Schools</dc:creator>
  <dc:description/>
  <dc:language>en-US</dc:language>
  <cp:lastModifiedBy>North Rockland Schools</cp:lastModifiedBy>
  <dcterms:modified xsi:type="dcterms:W3CDTF">2008-09-05T13:33:36Z</dcterms:modified>
  <cp:revision>1</cp:revision>
  <dc:subject/>
  <dc:title>SMART GOALS</dc:title>
</cp:coreProperties>
</file>